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7DA-9FE9-4D2A-88E6-BF81FF0F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C03-B1B3-41F0-98B2-16C870E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0EA-CD0B-441B-AEA8-FE350A2E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763-8F72-4E47-87FC-1691A9C1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141E-EF80-4C84-BC5C-3716F9D3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F2DF-3130-4D0B-8C23-3B3D7F3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8736-1ACE-463F-90E4-564CA8BB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C695-2DAD-4CCF-91E7-ADEBC599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0730-ECC4-48FE-AC57-5970A01B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9B9C-16CB-406D-9E82-D0D07FBA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932B-4954-4A22-AA41-C39E276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9ED-07EC-4168-BC18-42FCFA30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8DBA-7ECC-4B53-AC66-083AF8B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EC84-839C-4BD6-9D2D-8E94CBC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C000-CD45-4976-8999-EC8A6207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F5DC-B507-459D-B7E3-BCB087E0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DA1E-1B4C-4C37-93C4-6F96EBAA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659-4D61-46FE-8987-C46FF236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AE0-5975-4079-B9B0-CF7A242D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550-6103-47E9-B2CF-D6EDDCB0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FF9-1DB5-4B5D-A365-9436808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AFE-22D5-4707-9495-877BF45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DFE-12EF-4C9B-A4DA-6B70897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407-08AC-4100-A14D-7107A27C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B05C-2FA8-42DB-857A-B9DB9540F966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7A15-EFA6-49B4-B147-54FF874D5AAB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a566e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a566e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a566e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672080" cy="306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838080" y="152388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ton's Law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867280"/>
            <a:ext cx="518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Linda L. Smith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NASA Astrophysics Educator Ambassador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467000"/>
            <a:ext cx="79246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Figure Skat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42670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To begin moving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A figure skater must apply a force using her skates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Once in motion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She’ll continue to glide along the ice in a straight line for a long time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Unless she applies another force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0292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Tug of Wa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When each end of a rope is pulled,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the rope will move in the direction of whoever is pulling harder</a:t>
            </a:r>
            <a:br>
              <a:rPr sz="1900"/>
            </a:b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 whoever is applying more force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In this case, the magnitude or strength of A (on the right)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is greater than that of B (on the left)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so the rope accelerates to the right.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772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Snowboard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2160" y="167616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snowboarder experiences a force due to gravity which pulls her down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She will move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in a straight line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unless she applies </a:t>
            </a:r>
            <a:br>
              <a:rPr sz="2600"/>
            </a:b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force to the board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changing direction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97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Train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train is a very massive object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nd therefore has a lot of inertia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Once in motion, it is very difficult to stop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requiring a very large force to slow it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4777"/>
          <a:stretch/>
        </p:blipFill>
        <p:spPr>
          <a:xfrm>
            <a:off x="914400" y="1523880"/>
            <a:ext cx="7315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Jogg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9000" y="1752120"/>
            <a:ext cx="5562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jogger experiences many forces while running: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Gravity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The push of her feet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Friction of her shoes on the ground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ir resistance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Her legs, together with the friction of her shoes, overcomes her inertia to propel her forward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6002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ar Hitting a Wall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A car rolling down a hill is being moved by the force of gravity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When the car hits the wall, the greater inertia of the wall stops it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But anything not attached to the car will still move forward,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So the man running after the car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will lose his coffee, his lunch, and his briefcase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437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1:23:52Z</dcterms:created>
  <dc:creator>Linda L. Smith</dc:creator>
  <dc:description/>
  <cp:keywords/>
  <dc:language>en-US</dc:language>
  <cp:lastModifiedBy>Linda L. Smith</cp:lastModifiedBy>
  <dcterms:modified xsi:type="dcterms:W3CDTF">2008-07-06T01:57:0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51033</vt:lpwstr>
  </property>
</Properties>
</file>